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805-D5B7-40FD-8151-72AA5F88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559-E394-4B26-9FC0-12D34C52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5D1-C0F0-4F73-9AB2-4CCC1514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5AC-10A1-48C2-B20A-41CBAFB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22E-D4E5-4863-8DA3-CC8FAB92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F54-7BF5-48D1-86E0-144C0A74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3B2-577B-49D3-A655-5B73F0DD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264-0924-4FFF-981C-A04EBD3E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0D4-5DDE-48B9-9BB6-CA23B00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B8C-346F-40DC-BD5A-9A1CDC3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F53-4992-43E5-B0C4-66B87F1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EF0-4818-4C6C-9186-3343BF0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0EA9-81CF-450F-BA1D-456AA0ED8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3200" y="1844280"/>
            <a:ext cx="59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Stär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4440" y="378936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Jenny und 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998600">
            <a:off x="5795640" y="3573360"/>
            <a:ext cx="3132000" cy="241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9208800">
            <a:off x="0" y="1051920"/>
            <a:ext cx="338472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rä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Becherglas (100 ml), Waage, Pipette, Glasstab als Rü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Chemikali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d/Kaliumiodid-Lösung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tilliertes Wasser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g eines Stärkeproduktes (jede Gruppe ein anderes z.B. Maisstärke, Kartoffelmehl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urchführ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 das Stärkeprodukt in das Becherglas. Füge etwas Wasser hinzu und rühre gut u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nun 5 bis 10 Tropfen Jod/Kaliumiodid-Lösung hinzu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e die Reaktion mit den Ergebnissen anderer Gru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asser fas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lösl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eht zu 80% aus Amylopek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ill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im Erhitzen auf (40°C bis 60° 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5-87°C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erkleister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kühlung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erfestig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ühle Temperaturen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rogra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5099040"/>
            <a:ext cx="215892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8720" y="5084640"/>
            <a:ext cx="2158920" cy="173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11280" y="5445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Qu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8360" y="548172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ärkekorn während der Verkleist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hrung –Verdau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st jeder pflanz. Nahrung ent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chtigste Kohlenhydrat  menschlicher Ernäh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dau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r Amylose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e des Amylopektin zu Dextr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xtri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o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rption der Glucose im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3050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bensmittelverarbeitu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Cremes, Flammeries, 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den von Suppen und Soß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festmachen von Schlagsah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von Dextrinen und Traubenzu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stellung mehlhaltigen Nahrungsmitteln (z.B. Brot) und Nährmitt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zen von Baumwo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r Färbung mit Anilinfar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s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r bereits in der Antike bekannt 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amyl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6. Jh.: Hollän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rstellung großer Mengen Stär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deutendes Exportprodu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ärkeindustrie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andwirtschaftliches Gewer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nächst mäßig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 Maschinen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rößere Ausbe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: in Tabletten als Bindemittel, Füllmittel, Sprengmit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80360" y="1665360"/>
            <a:ext cx="147312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ärkeverkleist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hrung und Verdau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istorisch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88000" y="1449360"/>
            <a:ext cx="268452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37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lysaccha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icherform der Pfla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ergie durch enzymatischen Abb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in der Pflanze und bei der menschlichen Verdauu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winnung : Getreide, Kartoffeln, Mais &amp;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ärke allgem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ht aus 20% Amylose (wasser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aus 80% Amylopektin (unlösli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176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0 000 a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(1,4)-glykosidische Ver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egen in wässriger Lösung als Wendel 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Wendel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5-6 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7850160" cy="242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54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544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se 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gabe vo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ufär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d-Moleküle werden in Wendeln eingesch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ür Reaktion mü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d-Ionen vorhanden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245268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1 Mio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Glucose-Ein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struktur wie Amylose, nur verzweig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. jeder 25. Glucose-Rest zusätzl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-(1,6)-glykosidisch verknüp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lopek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139160" cy="407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3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720" y="17002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 ist di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(1,6)-Verknüpfung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mylopektin-Nach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od/Kaliumiodid-Lö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 teilweise Einschlussverbind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ärbung: braun-viol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5:08:44Z</dcterms:created>
  <dc:creator>Becher</dc:creator>
  <dc:description/>
  <dc:language>en-US</dc:language>
  <cp:lastModifiedBy>Becher</cp:lastModifiedBy>
  <dcterms:modified xsi:type="dcterms:W3CDTF">2006-11-20T16:55:37Z</dcterms:modified>
  <cp:revision>15</cp:revision>
  <dc:subject/>
  <dc:title>Stärke</dc:title>
</cp:coreProperties>
</file>